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30B-B92D-4AD9-8C3A-130B2895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B55-1071-42A8-9625-1F436B7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C33-9458-4A2D-ACD8-33AF4F70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BE1-7DD2-4B2C-8C21-995AC2F1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2785-4BCC-4F41-B222-4A14DE1E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5161-114E-4BB2-BB7E-AE4F07E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0660-528B-47AB-8090-A0D4A86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6C86-C721-41A8-A86D-0CC50A95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0E7F-96EF-4B08-8969-CFB4FD6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743E-1E72-40AC-AC00-4F760F33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7D9C-FD33-423F-92AB-645F260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00D-13DA-4CB2-831B-733F1432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5251-5635-4508-9376-F26583D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566-D9E4-457D-B2DC-AC8910F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8145-2CE0-4E71-8AB6-9A23565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859F-5832-419C-806D-BF0DDAD5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CED-919D-4895-A3B6-05B7A371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F825-F081-438B-924C-CB117B12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8803-83C2-4D19-B610-79459EB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72CB-CDEF-468B-9F80-70674B69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E5DA-998C-4596-868E-D794E99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CB14-F300-4428-8450-BA79E558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EFA-C14B-4E93-868A-80D84D3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4C4E-CDB4-454E-B452-C3B7A92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B192-3F0F-4A2F-9FFE-7FAD982D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58C6-8007-4882-B19E-EE2FE6F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73F3-B1A2-4F90-B82F-A798F63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F376-609A-4D17-A46D-38F4CE0B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E68C-E1C1-447B-9A62-74FD8EF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E4A8-6595-494B-89C1-84C288CB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5021-F2C9-4238-B0B5-383589F8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1F33-A031-4B4B-BFE7-EA031AE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C6AB3-1197-4365-BCD0-9BA5AC1C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699-E635-4801-B25E-F17E934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AC0C-B0D3-4DB4-9E54-8A9ECF0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3D47-7265-47F8-842B-3B2C9F07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A7B0-71B0-4154-B28D-2C7FAF23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61B6-B670-4F21-BF70-4A9BF97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D7A4-F132-41F8-B75E-557BA49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907A-ED3E-49D6-A7BD-1152B0C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6BFA-6580-4A44-A4AE-50650A5F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5B8C-4DA8-472C-9EB7-96D281CB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794C-AF48-4FCB-9EDE-9F40ADB8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15168-F0BE-4AEA-9E81-278EDC30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B82-411A-4116-92C9-44A70F04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FB9D-CCDC-4F1C-9095-B3070F9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318B-5435-464C-AAC4-DA00973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DB91-B0CC-4DAE-A346-3C74670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BDB60-7EEA-4D4B-B04F-13BAC2BB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E84B-AFD8-4B13-A2E2-097A486A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6CCED-6424-4315-85F2-175400D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3A97A-E77A-4BAA-8298-F77F8A7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BD27B-4DF3-41AE-B347-4EBD7ADE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D906-618A-473F-BB9F-9A32C20F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36BC-8450-4C1F-8B83-1D7B8EB7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1D1-5EEE-41AF-864B-FBBFF59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41247-370F-4E44-A4D4-19C39DA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75D83-3974-4DB5-93D7-13EF0CEF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31898-932F-4514-AA7E-23BAFA0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14CA-73F5-4C91-829D-54426C7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BCB5-BDDD-4D90-AA52-174ADDF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0C18-BF9C-4EEB-AD62-9C59AF1F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5A81-CA2D-4634-BE45-3F64893A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ABF5-1108-472A-80DD-501B726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0065-9DB4-4DE1-8166-DEA6AED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FEDD-74D7-45B4-B6A1-C46DCC3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F76-93D2-4C25-B876-0EFDB96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2F761-8C0F-413F-BDD7-7FB69772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81F3-C5CD-45C9-B7B9-1C06B322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EE61-274C-473B-8122-975A7F1F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A549-62AD-433C-AFAC-0D986D3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4CB1C-F505-481B-A5F8-C2950990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32C7-D93B-451C-9C45-6A8D961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0A12B-3CE2-4B0B-A749-383AF2F1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F45B-F452-4BB0-9F85-285FD54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73BA-E8FB-435F-A056-0B48FD2D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4F51-A1CC-4C18-AED1-746C34F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765-3607-484F-B38F-80FE4E4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2340-12C5-446F-AC32-0C0DF64C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D5DA-24F7-4519-85B2-48B81EC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E166-E9F3-4BCF-B46D-52282B6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2D91-59C6-44FD-8788-D6E3C634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64964-CD48-4B07-9D0F-C136A3BA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6D9-A893-4438-ABF4-2B9DCFA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690-1E9A-4441-926D-E4418BD89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93E6-025E-47FA-A7AA-7D80C4EC71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3DAD-C717-46F2-8958-A19629592D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2F4B-FF53-4093-99AC-9C2144A3E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BA2-E7BF-4E3B-B10D-E5A2AD770E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6DF-0044-4FE5-8944-40C07B05DD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307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8FEF-D826-4B87-93D5-141941685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Snap IT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nap ITC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84640"/>
            <a:ext cx="44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4932360" cy="3645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 rot="20226600">
            <a:off x="2272680" y="3427920"/>
            <a:ext cx="511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408b8"/>
                </a:solidFill>
                <a:latin typeface="Viner Hand ITC"/>
              </a:rPr>
              <a:t>       </a:t>
            </a: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Jade Hinsley-Sco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         </a:t>
            </a:r>
            <a:r>
              <a:rPr b="0" lang="en-NZ" sz="3600" spc="-1" strike="noStrike">
                <a:solidFill>
                  <a:srgbClr val="408f2d"/>
                </a:solidFill>
                <a:latin typeface="Viner Hand ITC"/>
              </a:rPr>
              <a:t>My portfol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Viner Hand ITC"/>
              </a:rPr>
              <a:t>     </a:t>
            </a:r>
            <a:r>
              <a:rPr b="0" lang="en-NZ" sz="9600" spc="-1" strike="noStrike">
                <a:solidFill>
                  <a:srgbClr val="ffffff"/>
                </a:solidFill>
                <a:latin typeface="Viner Hand ITC"/>
              </a:rPr>
              <a:t>Term 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Snap ITC"/>
              </a:rPr>
              <a:t>My Reading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Current reading level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292929"/>
                </a:solidFill>
                <a:latin typeface="Snap ITC"/>
              </a:rPr>
              <a:t>              </a:t>
            </a:r>
            <a:r>
              <a:rPr b="0" lang="en-NZ" sz="8800" spc="-1" strike="noStrike">
                <a:solidFill>
                  <a:srgbClr val="292929"/>
                </a:solidFill>
                <a:latin typeface="Snap ITC"/>
              </a:rPr>
              <a:t>13 years</a:t>
            </a: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-620640" y="4292640"/>
            <a:ext cx="1241280" cy="256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35002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Snap ITC"/>
              </a:rPr>
              <a:t>Read lots of book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5564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Snap ITC"/>
              </a:rPr>
              <a:t>Read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292929"/>
                </a:solidFill>
                <a:latin typeface="Snap ITC"/>
              </a:rPr>
              <a:t>My reading goal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292929"/>
                </a:solidFill>
                <a:latin typeface="Snap ITC"/>
              </a:rPr>
              <a:t>I will be reading at 13.5 and my comprehension at 85%, by the end of term 3.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How am I going to achieve th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y reading books with harder words in th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ooks with different subjects not just my normal interest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92929"/>
                </a:solidFill>
                <a:latin typeface="Snap ITC"/>
              </a:rPr>
              <a:t>By reading more text typ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Book Antiqua"/>
              </a:rPr>
              <a:t>Writ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292929"/>
                </a:solidFill>
                <a:latin typeface="Book Antiqua"/>
              </a:rPr>
              <a:t>My writing goal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292929"/>
                </a:solidFill>
                <a:latin typeface="Book Antiqua"/>
              </a:rPr>
              <a:t>To make most of my  texts in my writing have some humour in them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2920" y="1599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I will achieve this goal by: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Reading text types that have humour in them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292929"/>
                </a:solidFill>
                <a:latin typeface="Book Antiqua"/>
              </a:rPr>
              <a:t>Practice writing unrealistic texts so they get people hooked into the story, poem etc… that I am writing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current maths lev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358200" indent="-358200">
              <a:lnSpc>
                <a:spcPct val="80000"/>
              </a:lnSpc>
              <a:spcBef>
                <a:spcPts val="75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66ff66"/>
                </a:solidFill>
                <a:latin typeface="Arial"/>
              </a:rPr>
              <a:t>    </a:t>
            </a:r>
            <a:r>
              <a:rPr b="0" lang="en-NZ" sz="30000" spc="-1" strike="noStrike">
                <a:solidFill>
                  <a:srgbClr val="66ff66"/>
                </a:solidFill>
                <a:latin typeface="Viner Hand ITC"/>
              </a:rPr>
              <a:t>S: </a:t>
            </a:r>
            <a:r>
              <a:rPr b="0" lang="en-NZ" sz="30000" spc="-1" strike="noStrike">
                <a:solidFill>
                  <a:srgbClr val="292929"/>
                </a:solidFill>
                <a:latin typeface="Viner Hand ITC"/>
              </a:rPr>
              <a:t>9</a:t>
            </a:r>
            <a:r>
              <a:rPr b="0" lang="en-NZ" sz="30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300" spc="-1" strike="noStrike">
                <a:solidFill>
                  <a:srgbClr val="330033"/>
                </a:solidFill>
                <a:latin typeface="Curlz MT"/>
              </a:rPr>
              <a:t>MY Maths Goal</a:t>
            </a:r>
            <a:r>
              <a:rPr b="0" lang="en-NZ" sz="3800" spc="-1" strike="noStrike">
                <a:solidFill>
                  <a:srgbClr val="330033"/>
                </a:solidFill>
                <a:latin typeface="Curlz MT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My maths goal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NZ" sz="3500" spc="-1" strike="noStrike">
                <a:solidFill>
                  <a:srgbClr val="000000"/>
                </a:solidFill>
                <a:latin typeface="Curlz MT"/>
              </a:rPr>
              <a:t>Is to learn my 12 times tables and be able to recall them quickly by the end of Term 3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I am going to achieve my goal by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Practicing my 12 times tables every night at hom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By doing them as part of my homework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ff0000"/>
                </a:solidFill>
                <a:latin typeface="Curlz MT"/>
              </a:rPr>
              <a:t>By practising them at schoo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1280" y="1557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851360" y="1980720"/>
            <a:ext cx="3759120" cy="1987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17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Curlz MT"/>
              </a:rPr>
              <a:t>12x1=12 12x2=24 </a:t>
            </a:r>
            <a:r>
              <a:rPr b="0" lang="en-NZ" sz="4800" spc="-1" strike="noStrike">
                <a:solidFill>
                  <a:srgbClr val="000000"/>
                </a:solidFill>
                <a:latin typeface="Curlz MT"/>
              </a:rPr>
              <a:t>12x3=36 12x4=48 12x5=60 12x6=72</a:t>
            </a:r>
            <a:r>
              <a:rPr b="0" lang="en-NZ" sz="4800" spc="-1" strike="noStrike">
                <a:solidFill>
                  <a:srgbClr val="ffffff"/>
                </a:solidFill>
                <a:latin typeface="Curlz MT"/>
              </a:rPr>
              <a:t> 12x7=84 12x8=96 12x9=108 12x10=120 12x11=132 12x12=144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0"/>
            <a:ext cx="9144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urlz MT"/>
              </a:rPr>
              <a:t>Evidence of my Maths go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y topic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radley Hand ITC"/>
              </a:rPr>
              <a:t>To finish everything in my topic and to keep up with the work been given ou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408b8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408b8"/>
                </a:solidFill>
                <a:latin typeface="Bradley Hand ITC"/>
              </a:rPr>
              <a:t>How I can achiev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Bradley Hand ITC"/>
              </a:rPr>
              <a:t>Keep on task at all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Bradley Hand ITC"/>
              </a:rPr>
              <a:t>Not get distracted when other people are not behaving sensi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22:39:21Z</dcterms:created>
  <dc:creator>colinmccahon</dc:creator>
  <dc:description/>
  <dc:language>en-US</dc:language>
  <cp:lastModifiedBy>colinmccahon</cp:lastModifiedBy>
  <dcterms:modified xsi:type="dcterms:W3CDTF">2011-11-10T23:48:13Z</dcterms:modified>
  <cp:revision>23</cp:revision>
  <dc:subject/>
  <dc:title>Jade Hinsley-Scott</dc:title>
</cp:coreProperties>
</file>